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54E-174F-4DE4-A004-4900DE22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A0B-2A8B-4719-8D55-E8422C4C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2AFDF-701F-4375-88A5-089AE44D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F186B-F64F-4804-A76E-D1910596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A02D0-9A81-40AA-A72C-19F6DCA4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B3781-843C-4C2E-A3BA-ECBD448F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4C0DC-B390-45B4-8AE3-9292A06F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9EB0D-1B04-4F3A-A8B7-C174EFF1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F9E74-8E8B-4069-BB4B-6F08AF06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D91C5-F4A4-4A4E-98CE-9D204D59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3E3E4-7AD0-49C8-A1EE-4E74B82A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04826-8888-473C-8DEF-374579D3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CBA-F21F-45BF-AFE0-0B2665AF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88DCB-CE75-486A-94FC-FB7BD3C5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C5677-E85D-4268-9DDD-7A1307D6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EE2E8-44D2-4235-9F2F-4919F542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1AC45-A914-42F0-9802-89CA40C1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8C933-30E7-42EC-BE0C-4EAD40B7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35FA0-8BCD-4CA4-BE35-7E5CE9D6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65CF4-3DA0-4AD3-9677-CD6A5800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75444-AE90-4CB0-B75E-DCD5A9EB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8BC59-ECA5-47FA-B28A-F85B90F8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6916A-20DB-4C72-9BD2-3BF3F66A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262-AF2E-4370-9876-0293D72B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C2288-976B-4EB6-B39D-98F2A3F5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754A7-35A8-445E-9FA8-72DF944F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2C72A-D9E1-4B54-8717-13F5D660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61DDE-A4A6-4A22-A6E0-18AAA4E7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5D3C5-069F-4463-A49E-A2376C48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1601D-7233-4540-9F67-53434A82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F133B-76E3-44CA-9438-C6D4A897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C1C2F-7A2B-4FA2-A6E8-94ABAF2F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8DE96-B43E-4137-B710-36667200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1D83E-A1F4-4D8E-92AD-05976762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6BA1-83A6-4151-A97A-D603F36E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F6D80-FB82-4CF7-9870-14159007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7531D-301B-4345-BA43-7C737CE5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F1092-B8CD-4184-A5F7-DB67130B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CB6D9-AC31-42B7-9A52-93A675BD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B461D-CDB6-4CFF-A42F-06FF2E8B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9ABC0-0A70-4BFC-9266-F21AC87C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19A61-3D80-45E9-A72F-7344D9CA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AE10A-B40B-403C-B021-2AFDED12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74A9A-F67A-4DF7-BC93-E58AB790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BA096-1964-4DE4-BFCB-4E1D4FB5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135E-AE6F-446F-8611-86936273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1E734-510E-4A8D-8DFC-5814E626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8411E-5160-4F48-9861-8B6134EA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88BF6-4CB1-4884-ABA4-4C6F9464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18DC7-0EC3-4649-8EE2-C725E7F5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588D7-0566-4768-956B-4597B8FE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09C3-2985-4A1E-9D43-4A551B74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A42F-D97A-4549-B662-A044BBFD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37AD-393F-4227-AF73-C889FE97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F526-12BE-4A72-8C6F-7DF29E76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B00F-C8CB-48A4-A7D3-C3DE921A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9F3-9F83-49F7-B289-610939BB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88DB-FCDB-491A-B46F-5F83DC79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4732-E96C-4D64-98AB-D13F75AE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5BFB-4778-404C-B621-79738F4B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5475-A0C1-43D1-AFD7-D9DFDB59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4F13-18AA-4675-B5B2-516B6737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BADA6-3B3D-4AE9-B643-3BF296F6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B3EE-EF54-4D4F-A82B-E0BD95C7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B73D-D0B8-46BF-ADAF-813BCA38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9E6F3-A879-4CB1-876F-6A1450A4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C9F87-AB76-491C-B074-7570D17F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383-7DD1-4382-B649-5C08BA02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F545-D081-47AD-BAAE-73F45404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06E2-E7F6-4807-A79A-4F8C3B71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91D84-3D51-4904-A6FE-9B1F10C0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07C5-2F67-4C97-AF01-E61E3FF6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E13A6-91E4-4CC2-A1AA-649D6DE8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5F40-1A87-46C2-9863-D70A5454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9CAD-50DE-4C2C-8366-63BBDB9D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F9935-9993-438A-B894-18DD3774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D09D6-A922-4170-8700-BD705AB5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B468B-F966-41EF-A667-309A1702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850-AEC8-4DFD-AC59-4524FB07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126C1-242F-4B04-AA63-3BA86446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40E6A-C65F-45AD-85BC-FE006A2C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62942-644E-40C5-89F0-5345D323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F8DB5-8BE2-4005-AA55-5209047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9D1A-1E96-4860-8F74-B6BB7BF7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46AF1-9FE6-4EE5-9C48-B838E535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C6734-44CE-4316-9A1C-8FB15968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7E5B0-B951-489F-8819-E0089914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C1374-637D-4A0C-A90D-9398E283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487E4-2E00-4E62-B45F-0875980C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DA6-E085-4B21-AB85-DFBDC13C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58F16-E83E-4868-8DE1-DA70B032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A9768-15F5-4C64-8BD3-48CA6C80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87EDF-643E-483E-85D7-F491A5A0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C38C0-CE28-4611-B029-7E25E79D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DFD77-466E-49DD-88B5-E1BF06C3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C4210-2A9C-451C-9E80-BC45286C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A6837-BF50-4987-A8E5-3DEF3A34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2F7DC-7F17-4EA6-BB3E-E4A1A9A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48872-3524-4B22-ACD6-EE3537C4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CF1CE-FC07-41A6-B226-259DE48D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E28-2B08-499B-B868-72E800F1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D522C-741C-47C6-B0E4-8918F5F0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A11A4-6111-41BB-9967-1E9AD21D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A81B8-DDC1-4C20-A258-ADE588AD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F559E-30A9-4D69-90B2-54C214EE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665A5-7619-46ED-BD8F-CAAA3909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34BDB-2265-4BE1-8F3F-21AB4A2B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ABD2E-1E90-4D1B-94B9-27E677BC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3EB2E-2CB7-41A1-BA37-263D424D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7E04-51DF-48D2-AF46-8997B68E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A99FD-0C47-4C39-A6BF-F13A304D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81F-87C4-45A1-A477-998DE35B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057B9-205B-4E6F-A3B2-0CFEC7FC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3E597-30BA-47BD-B0E4-262B4485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47442-CAEA-478D-99AE-0ED42A4A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954AF-4676-483A-9C55-82BA7A79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8E875-B2B7-4387-8DAD-5347B845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838F0-8310-421C-A381-EEC5224E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37431-2174-4C48-A5DA-458677C4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68CA8-5A28-4820-BC9E-328A7826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E724F-526A-468E-AA46-2FF223D3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F929C-6B32-4D9B-923D-C0230E9C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B01-3C29-45BA-8CAC-DBCFC789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C3089-1AE5-4750-997F-D8714662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05CBF-CE78-4D10-B65F-A3235955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E3AF4-BD94-482D-BAAC-FB364A36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0C1B-8B6B-4D80-AD03-26F2D5C1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F5AD2-1E60-4981-80B8-FBDEB871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4F3C4-C1E4-4C1A-9B73-5B7D5262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1A2BF-BE5A-4779-94DE-E6D16E86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6C131-639E-4872-A3D8-E4331FDA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B82DE-93FB-4CC0-A154-62C5F397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60A40-3676-4FC7-BDFA-6BC19506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A42-053C-47E8-A6CF-ACF2E63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B1020-D016-4335-9F90-D42DF7A6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DCE5C-799B-4705-9040-C484C9A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16FCA-879C-49C7-B432-C91B9658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EFF61-8180-47B6-B2A4-1A97BF9A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66D90-54D4-48AD-8323-DEDEE6AC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2A913-8599-4CAB-8D0D-6D87DF7B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FC01C-963B-42B8-BEEF-48EBCBE4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53ABD-7070-4BC6-9843-F057AD1B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109DD-D408-4590-98F6-8A7E8011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682C0-38AF-48F7-80D0-0CB21B00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4C8B-5B27-4C78-ACA3-0BBCB777BCB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e8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C10-0D80-4B95-B034-EF22E99D163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837E-A4A3-4CB9-BD11-C62E5EA29EA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2B7C-D950-4DE6-B62B-2E9BEB0D641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AC97-D8F6-4182-B706-E99A271D2285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870B-596D-433D-8C0D-F679ADD2B48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D9C4-F3C1-4EAC-9ECC-7113CB28761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1B92-B29C-4DC0-A046-C7F974CDD311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D889-534D-43BE-9AE3-6D7BA6426A8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A534-CEDB-441E-BDF8-28BBF3AF855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387B-2823-4D64-B770-8341A27C06F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8AA9-39DA-44CD-81E6-F26A2B7DE4E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5CF7-4544-40C4-B692-42315D0E2CF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2936-7796-401B-BA40-65D372B5841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Rectangle 6" descr=""/>
          <p:cNvPicPr/>
          <p:nvPr/>
        </p:nvPicPr>
        <p:blipFill>
          <a:blip r:embed="rId1"/>
          <a:stretch/>
        </p:blipFill>
        <p:spPr>
          <a:xfrm>
            <a:off x="609480" y="3486240"/>
            <a:ext cx="7772400" cy="14698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257480" y="4452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Autofit/>
          </a:bodyPr>
          <a:p>
            <a:pPr marL="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reating a Brochur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5727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>
              <a:lnSpc>
                <a:spcPct val="90000"/>
              </a:lnSpc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Z-Fol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- the paper is folded in alternating directions, which is good if you want to present information sequentially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Barrel Fol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- much like you'd fold a letter before putting it in an envelop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2" name="Picture 4" descr="Figure 1"/>
          <p:cNvPicPr/>
          <p:nvPr/>
        </p:nvPicPr>
        <p:blipFill>
          <a:blip r:embed="rId2"/>
          <a:stretch/>
        </p:blipFill>
        <p:spPr>
          <a:xfrm>
            <a:off x="6172200" y="2819520"/>
            <a:ext cx="2562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457200" y="52380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6840" y="1460520"/>
            <a:ext cx="419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Orient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set up your page to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landscap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lick the “page layout” ta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orient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Landscap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Margi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change the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margin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lick the “page layout tab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Margi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hange the Margins to .5" all the way around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2"/>
          <a:stretch/>
        </p:blipFill>
        <p:spPr>
          <a:xfrm>
            <a:off x="5159520" y="246240"/>
            <a:ext cx="3768480" cy="2760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"/>
          <p:cNvPicPr/>
          <p:nvPr/>
        </p:nvPicPr>
        <p:blipFill>
          <a:blip r:embed="rId3"/>
          <a:stretch/>
        </p:blipFill>
        <p:spPr>
          <a:xfrm>
            <a:off x="5159520" y="3309840"/>
            <a:ext cx="3811320" cy="2992680"/>
          </a:xfrm>
          <a:prstGeom prst="rect">
            <a:avLst/>
          </a:prstGeom>
          <a:ln w="0">
            <a:noFill/>
          </a:ln>
        </p:spPr>
      </p:pic>
      <p:cxnSp>
        <p:nvCxnSpPr>
          <p:cNvPr id="527" name="Straight Arrow Connector 2"/>
          <p:cNvCxnSpPr/>
          <p:nvPr/>
        </p:nvCxnSpPr>
        <p:spPr>
          <a:xfrm flipV="1">
            <a:off x="4080960" y="1774440"/>
            <a:ext cx="3288600" cy="983520"/>
          </a:xfrm>
          <a:prstGeom prst="straightConnector1">
            <a:avLst/>
          </a:prstGeom>
          <a:ln w="47880">
            <a:solidFill>
              <a:srgbClr val="76c5ef"/>
            </a:solidFill>
            <a:miter/>
            <a:tailEnd len="med" type="arrow" w="med"/>
          </a:ln>
        </p:spPr>
      </p:cxnSp>
      <p:cxnSp>
        <p:nvCxnSpPr>
          <p:cNvPr id="528" name="Straight Arrow Connector 8"/>
          <p:cNvCxnSpPr/>
          <p:nvPr/>
        </p:nvCxnSpPr>
        <p:spPr>
          <a:xfrm>
            <a:off x="3776400" y="5119200"/>
            <a:ext cx="2610360" cy="777240"/>
          </a:xfrm>
          <a:prstGeom prst="straightConnector1">
            <a:avLst/>
          </a:prstGeom>
          <a:ln w="47880">
            <a:solidFill>
              <a:srgbClr val="76c5e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6840" y="1774800"/>
            <a:ext cx="4033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set up your columns click the “Page Layout” ta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olum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Select Three Colum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1" name="Picture 5" descr=""/>
          <p:cNvPicPr/>
          <p:nvPr/>
        </p:nvPicPr>
        <p:blipFill>
          <a:blip r:embed="rId2"/>
          <a:stretch/>
        </p:blipFill>
        <p:spPr>
          <a:xfrm>
            <a:off x="4591080" y="1517760"/>
            <a:ext cx="4095720" cy="3467160"/>
          </a:xfrm>
          <a:prstGeom prst="rect">
            <a:avLst/>
          </a:prstGeom>
          <a:ln w="0">
            <a:noFill/>
          </a:ln>
        </p:spPr>
      </p:pic>
      <p:cxnSp>
        <p:nvCxnSpPr>
          <p:cNvPr id="532" name="Straight Arrow Connector 6"/>
          <p:cNvCxnSpPr/>
          <p:nvPr/>
        </p:nvCxnSpPr>
        <p:spPr>
          <a:xfrm>
            <a:off x="4026960" y="3251160"/>
            <a:ext cx="3056760" cy="489600"/>
          </a:xfrm>
          <a:prstGeom prst="straightConnector1">
            <a:avLst/>
          </a:prstGeom>
          <a:ln w="47880">
            <a:solidFill>
              <a:srgbClr val="76c5e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255600" y="1417680"/>
            <a:ext cx="448776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o adjust the spacing of your columns go to the “Page Layout” t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Colum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More colum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allows you to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djust column width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d spac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5" name="Picture 5" descr=""/>
          <p:cNvPicPr/>
          <p:nvPr/>
        </p:nvPicPr>
        <p:blipFill>
          <a:blip r:embed="rId2"/>
          <a:stretch/>
        </p:blipFill>
        <p:spPr>
          <a:xfrm>
            <a:off x="4727520" y="1281240"/>
            <a:ext cx="4057560" cy="3476520"/>
          </a:xfrm>
          <a:prstGeom prst="rect">
            <a:avLst/>
          </a:prstGeom>
          <a:ln w="0">
            <a:noFill/>
          </a:ln>
        </p:spPr>
      </p:pic>
      <p:cxnSp>
        <p:nvCxnSpPr>
          <p:cNvPr id="536" name="Straight Arrow Connector 5"/>
          <p:cNvCxnSpPr/>
          <p:nvPr/>
        </p:nvCxnSpPr>
        <p:spPr>
          <a:xfrm>
            <a:off x="2500200" y="2774880"/>
            <a:ext cx="4911120" cy="1783440"/>
          </a:xfrm>
          <a:prstGeom prst="straightConnector1">
            <a:avLst/>
          </a:prstGeom>
          <a:ln w="47880">
            <a:solidFill>
              <a:srgbClr val="76c5ef"/>
            </a:solidFill>
            <a:miter/>
            <a:tailEnd len="med" type="arrow" w="med"/>
          </a:ln>
        </p:spPr>
      </p:cxnSp>
      <p:pic>
        <p:nvPicPr>
          <p:cNvPr id="537" name="Picture 7" descr=""/>
          <p:cNvPicPr/>
          <p:nvPr/>
        </p:nvPicPr>
        <p:blipFill>
          <a:blip r:embed="rId3"/>
          <a:stretch/>
        </p:blipFill>
        <p:spPr>
          <a:xfrm>
            <a:off x="2700360" y="3895560"/>
            <a:ext cx="3081240" cy="2772000"/>
          </a:xfrm>
          <a:prstGeom prst="rect">
            <a:avLst/>
          </a:prstGeom>
          <a:ln w="0">
            <a:noFill/>
          </a:ln>
        </p:spPr>
      </p:pic>
      <p:cxnSp>
        <p:nvCxnSpPr>
          <p:cNvPr id="538" name="Straight Arrow Connector 9"/>
          <p:cNvCxnSpPr/>
          <p:nvPr/>
        </p:nvCxnSpPr>
        <p:spPr>
          <a:xfrm>
            <a:off x="2500200" y="3819240"/>
            <a:ext cx="1116720" cy="1462680"/>
          </a:xfrm>
          <a:prstGeom prst="straightConnector1">
            <a:avLst/>
          </a:prstGeom>
          <a:ln w="47880">
            <a:solidFill>
              <a:srgbClr val="76c5e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067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the Text Box from the “Insert Tab” menu to help you organize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as many as the tools (bullets, word art, pictures etc) that we’ve learned to help organize your information and make it visually appeal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41" name="Picture 5" descr=""/>
          <p:cNvPicPr/>
          <p:nvPr/>
        </p:nvPicPr>
        <p:blipFill>
          <a:blip r:embed="rId2"/>
          <a:stretch/>
        </p:blipFill>
        <p:spPr>
          <a:xfrm>
            <a:off x="0" y="4054320"/>
            <a:ext cx="9182160" cy="1314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"/>
          <p:cNvPicPr/>
          <p:nvPr/>
        </p:nvPicPr>
        <p:blipFill>
          <a:blip r:embed="rId3"/>
          <a:stretch/>
        </p:blipFill>
        <p:spPr>
          <a:xfrm>
            <a:off x="1523880" y="5369040"/>
            <a:ext cx="61344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lete 07 – Ergonomics Brochure Assignmen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0:31:13Z</dcterms:created>
  <dc:creator>Office 2004 Test Drive User</dc:creator>
  <dc:description/>
  <dc:language>en-US</dc:language>
  <cp:lastModifiedBy>Katherine Vlug</cp:lastModifiedBy>
  <dcterms:modified xsi:type="dcterms:W3CDTF">2015-10-13T16:09:38Z</dcterms:modified>
  <cp:revision>28</cp:revision>
  <dc:subject/>
  <dc:title>Title</dc:title>
</cp:coreProperties>
</file>